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EBB-8157-4417-A8CF-96CEB57B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53C-D4A4-422F-95B9-D462E41B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16B-5CFF-4D2C-B174-99BDD1A6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87B-0A60-4A2C-8F6F-F9EBFBC0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E805-7842-490A-AA7A-5C4AE522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74B7-CDF3-4CFD-8A17-6E52246A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88B9-CF5D-4D82-B8DD-1C90D2F6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D3AB-D022-446A-A387-62ABD6DD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6510-7641-4781-A1A5-7030AADB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3801-349E-4BD9-8424-A69AAED3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C2A2-86AA-4768-B362-4AEB8E64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9AB-7C21-46A3-9825-0E7A2142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6A1F-A152-49C8-BCF7-7CC4FD93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919E-5BAF-4EA8-B7AA-183968A7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A85A-BEBA-41AB-A53F-35A7C690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8393-77DA-45DC-B56F-38751113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BB0C-C58A-4227-A22F-454A0793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B35-6514-4832-9FD1-CFE6B3C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874-1C6A-44B0-BF24-A4808AB8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C2DA-5673-46FB-8E2A-563F40FD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FB1A-862D-49A0-A131-04F04213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0BD-95F0-42D7-B1B3-6AEB2337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683-6B46-4529-9C50-D12E00A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9FE-CF57-4435-B2DB-7C272F1B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907D-8B9A-4913-827F-9614F272C226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5F97-EF11-439B-B1DC-DCA64BBABE9F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</a:rPr>
              <a:t>RODZ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ce chodzić do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 potrzebę uczestniczenia w życiu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ę się bezpiecznie i lepiej rozwija swoje umiejętnoś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Uczy się dla sieb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spółpracuje z nauczycielami, wspiera ich dział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spokojny o swoje dziec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ełnia istotna rolę, współuczestniczy w działaniach podejmowanych przez szkoł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acuje, ma satysfakcje z wyników swoich uczni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aktyw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siada niezbędna wiedz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acza dziecko opiek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Idzie z radością do 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BD06663_" descr=""/>
          <p:cNvPicPr/>
          <p:nvPr/>
        </p:nvPicPr>
        <p:blipFill>
          <a:blip r:embed="rId1"/>
          <a:stretch/>
        </p:blipFill>
        <p:spPr>
          <a:xfrm>
            <a:off x="1890720" y="2097000"/>
            <a:ext cx="38131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U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ORGANIZOWAĆ PRZERWY (akc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harytatywne, sprzeda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iast, radiowęze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YSKOTEKA SZKOLNA</a:t>
            </a:r>
            <a:r>
              <a:rPr b="0" lang="pl-P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AJĘCIA POZALEK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MPREZY INTEGRACYJ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YSTRÓJ OKOLICZNOŚCIOWY SZKOŁ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BIBLIOTEKA SZKOL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ONKURS „ZGADNIJ KTO TO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KCJE PRZECI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MOCY (różnorodne działania kulturalne, sportowe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RODZICE NA GODZINACH WYCHOWAW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PORZĄD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EGULAMIN SZKOŁ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YŻURY(na przerwac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BEZPIECZENIE PRZED OSOBAMI Z ZEWNĄTRZ (identyfika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EGULAMIM PORZĄDKU 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ARY ZA AGRESYWNE ZACHOW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984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OPIEKA i POMO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 RODZICAMI W CZASIE WIZYTY W SZKOLE(miejsce rozmów, tablice ogłoszeniowe w dniu zebrań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ECJALISTA W SZKOLE (dyżur psycholog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2920" y="1641240"/>
            <a:ext cx="38149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LENIA DLA NAUCZYCIELI I RODZICÓW(Jak radzić sobie  z przemocą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ODZINY WYCHOWAWCZE DLA UCZNIÓW(Jak radzić sobie  z przemocą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Times New Roman"/>
              </a:rPr>
              <a:t>DZIĘKUJĘ ZA WSPÓŁPRAC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6776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opracowani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łgorzata Siup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o taki, który chętnie uczestniczy w zajęci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w dobrych relacjach z uczniami i nauczyciel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e się bezpieczny i potrzeb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osobą zadowoloną, otwartą i przyjacielsk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spokojny o bezpieczeństwo dziec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ający pewność, że jego dziecko jest w „dobrych rękach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warty, pomocny w rozwiązywaniu problem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y do współ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acu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yrozumia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Otwarty na problemy ucznió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ący się bezpiecz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że spokojnie realizować program edukacyj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imes New Roman"/>
              </a:rPr>
              <a:t>UCZNIOWI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Uczeń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Jest zadowolony, pewny sieb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ezpiecz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zczęśliw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hętnie przychodzi do szkoł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Może skupić się na na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Rodzic w szkole bez przemocy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ą spokojniejsi i nie muszą martwić się o dwoje dzie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winien wspierać, pomaga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Nauczyciel w szkole bez przemocy.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zuje się bezpieczn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Tolerancyjny, pomoc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Cieszy się ze swojej p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Będzie zadowol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imes New Roman"/>
              </a:rPr>
              <a:t>SZKOŁA BEZ PRZEMO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8131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NAUCZYCI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D00028_" descr=""/>
          <p:cNvPicPr/>
          <p:nvPr/>
        </p:nvPicPr>
        <p:blipFill>
          <a:blip r:embed="rId1"/>
          <a:stretch/>
        </p:blipFill>
        <p:spPr>
          <a:xfrm>
            <a:off x="4643280" y="1730520"/>
            <a:ext cx="3814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6:25:14Z</dcterms:created>
  <dc:creator>Gosia</dc:creator>
  <dc:description/>
  <dc:language>en-US</dc:language>
  <cp:lastModifiedBy>PLO</cp:lastModifiedBy>
  <dcterms:modified xsi:type="dcterms:W3CDTF">2008-01-31T15:39:25Z</dcterms:modified>
  <cp:revision>14</cp:revision>
  <dc:subject/>
  <dc:title>SZKOŁA BEZ PRZEMOCY</dc:title>
</cp:coreProperties>
</file>