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66B77-9A70-4F8D-82CD-719F92381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600" y="28195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371600" y="37353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5A8A1-3F56-40A4-BA67-8AEE2F336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5156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7160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5156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13D1F-1256-4FDC-87B7-7FEEE7F1A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371600" y="2819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535560" y="2819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699880" y="2819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371600" y="3735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535560" y="3735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699880" y="3735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08407-493C-4354-8653-8C0230EF6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04F60-0133-42EF-B64C-A7718E13E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394BC-C7F6-4FDE-83D0-1499AB876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A24AD-5594-4CBD-AA11-F36CE4320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160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5156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C749F-6D18-4FCE-96F4-211B47A6E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A0E81-E633-4AF1-9A4B-9592BEAB7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CEF40-4889-4893-8CB9-C33F9569B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160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5156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37160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B2C6E-E236-40E5-BDAA-260A51F90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FCB89-9C21-4817-AE5B-0B2D4C8D5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160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5156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5156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33448-1BCC-4B29-B2E8-0567C5FCA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60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5156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71600" y="37353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F016D-6088-4B10-AAC8-47450E3BC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1600" y="28195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371600" y="37353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A8368-C9FA-4DB9-9B01-4D136E0D1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160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5156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37160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5156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C9556-4453-4504-A45B-278BCE3AD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71600" y="2819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35560" y="2819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699880" y="2819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371600" y="3735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35560" y="3735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699880" y="3735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55879-233C-491B-B1B5-294A6215F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15E9E-D198-481F-8B38-494FE0553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540F6-82C8-4DF5-97D2-331092B62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B2DE6-06E9-48E2-9A9C-6784F2F40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4BCBA-D6B5-4F61-9B64-8CAEBCE9F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37160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A158A-CCAF-4982-935D-6C16581B4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5156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FE362-D5A2-4FBA-B703-6B0C763F6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5156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371600" y="37353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7BA48-2BBA-4613-A1DC-6A0F6FB41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097BA-095C-41C9-A37D-7CE639354C83}" type="slidenum"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47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322CE-9156-4541-A1FE-E497A75E1B77}" type="slidenum"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00"/>
                </a:solidFill>
                <a:latin typeface="Times New Roman"/>
              </a:rPr>
              <a:t>SZKOŁA BEZ PRZEMOC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81312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Times New Roman"/>
              </a:rPr>
              <a:t>RODZIC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4" name="BD00028_" descr=""/>
          <p:cNvPicPr/>
          <p:nvPr/>
        </p:nvPicPr>
        <p:blipFill>
          <a:blip r:embed="rId1"/>
          <a:stretch/>
        </p:blipFill>
        <p:spPr>
          <a:xfrm>
            <a:off x="4643280" y="1730520"/>
            <a:ext cx="3814920" cy="42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00"/>
                </a:solidFill>
                <a:latin typeface="Times New Roman"/>
              </a:rPr>
              <a:t>Uczeń w szkole bez przemocy...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Chce chodzić do szkoł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Ma potrzebę uczestniczenia w życiu szkoł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Czuję się bezpiecznie i lepiej rozwija swoje umiejętnośc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Uczy się dla siebi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00"/>
                </a:solidFill>
                <a:latin typeface="Times New Roman"/>
              </a:rPr>
              <a:t>Rodzic w szkole bez przemocy...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Współpracuje z nauczycielami, wspiera ich działan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Jest spokojny o swoje dzieck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Spełnia istotna rolę, współuczestniczy w działaniach podejmowanych przez szkołę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00"/>
                </a:solidFill>
                <a:latin typeface="Times New Roman"/>
              </a:rPr>
              <a:t>Nauczyciel w szkole bez przemocy....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Chętnie pracuje, ma satysfakcje z wyników swoich uczniów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Jest aktywn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Posiada niezbędna wiedzę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Otacza dziecko opieką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Idzie z radością do prac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798480"/>
            <a:ext cx="7772400" cy="64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00"/>
                </a:solidFill>
                <a:latin typeface="Times New Roman"/>
              </a:rPr>
              <a:t>Szkoła bez przemoc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20" name="BD06663_" descr=""/>
          <p:cNvPicPr/>
          <p:nvPr/>
        </p:nvPicPr>
        <p:blipFill>
          <a:blip r:embed="rId1"/>
          <a:stretch/>
        </p:blipFill>
        <p:spPr>
          <a:xfrm>
            <a:off x="1890720" y="2097000"/>
            <a:ext cx="3813120" cy="37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907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00"/>
                </a:solidFill>
                <a:latin typeface="Times New Roman"/>
              </a:rPr>
              <a:t>NUD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81312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ZORGANIZOWAĆ PRZERWY (akcj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charytatywne, sprzeda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ciast, radiowęzeł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DYSKOTEKA SZKOLNA</a:t>
            </a:r>
            <a:r>
              <a:rPr b="0" lang="pl-PL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ZAJĘCIA POZALEKCYJ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IMPREZY INTEGRACYJ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WYSTRÓJ OKOLICZNOŚCIOWY SZKOŁ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42920" y="1641240"/>
            <a:ext cx="381492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BIBLIOTEKA SZKOL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KONKURS „ZGADNIJ KTO TO?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AKCJE PRZECI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PRZEMOCY (różnorodne działania kulturalne, sportowe etc.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RODZICE NA GODZINACH WYCHOWAWCZYC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98480"/>
            <a:ext cx="7772400" cy="64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00"/>
                </a:solidFill>
                <a:latin typeface="Times New Roman"/>
              </a:rPr>
              <a:t>PORZĄDEK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81312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REGULAMIN SZKOŁ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DYŻURY(na przerwach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ZABEZPIECZENIE PRZED OSOBAMI Z ZEWNĄTRZ (identyfikatory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REGULAMIM PORZĄDKU S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42920" y="1641240"/>
            <a:ext cx="381492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KARY ZA AGRESYWNE ZACHOWAN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798480"/>
            <a:ext cx="7772400" cy="64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00"/>
                </a:solidFill>
                <a:latin typeface="Times New Roman"/>
              </a:rPr>
              <a:t>OPIEKA i POMOC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81312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NAD RODZICAMI W CZASIE WIZYTY W SZKOLE(miejsce rozmów, tablice ogłoszeniowe w dniu zebrań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SPECJALISTA W SZKOLE (dyżur psycholog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42920" y="1641240"/>
            <a:ext cx="381492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SZKOLENIA DLA NAUCZYCIELI I RODZICÓW(Jak radzić sobie  z przemocą?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GODZINY WYCHOWAWCZE DLA UCZNIÓW(Jak radzić sobie  z przemocą?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ffffff"/>
                </a:solidFill>
                <a:latin typeface="Times New Roman"/>
              </a:rPr>
              <a:t>DZIĘKUJĘ ZA WSPÓŁPRACĘ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677600"/>
            <a:ext cx="777240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00"/>
                </a:solidFill>
                <a:latin typeface="Times New Roman"/>
              </a:rPr>
              <a:t>opracowani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Małgorzata Siupi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00"/>
                </a:solidFill>
                <a:latin typeface="Times New Roman"/>
              </a:rPr>
              <a:t>Uczeń w szkole bez przemocy...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To taki, który chętnie uczestniczy w zajęcia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Jest w dobrych relacjach z uczniami i nauczycielam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Czuje się bezpieczny i potrzebn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Jest osobą zadowoloną, otwartą i przyjacielską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00"/>
                </a:solidFill>
                <a:latin typeface="Times New Roman"/>
              </a:rPr>
              <a:t>Rodzic w szkole bez przemocy...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Jest spokojny o bezpieczeństwo dzieck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Mający pewność, że jego dziecko jest w „dobrych rękach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Otwarty, pomocny w rozwiązywaniu problemów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Chętny do współprac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00"/>
                </a:solidFill>
                <a:latin typeface="Times New Roman"/>
              </a:rPr>
              <a:t>Nauczyciel w szkole bez przemocy....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Chętnie pracuj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Wyrozumiał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Otwarty na problemy uczniów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Czujący się bezpieczni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Może spokojnie realizować program edukacyjn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00"/>
                </a:solidFill>
                <a:latin typeface="Times New Roman"/>
              </a:rPr>
              <a:t>SZKOŁA BEZ PRZEMOC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81312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ffffff"/>
                </a:solidFill>
                <a:latin typeface="Times New Roman"/>
              </a:rPr>
              <a:t>UCZNIOWI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3" name="BD00028_" descr=""/>
          <p:cNvPicPr/>
          <p:nvPr/>
        </p:nvPicPr>
        <p:blipFill>
          <a:blip r:embed="rId1"/>
          <a:stretch/>
        </p:blipFill>
        <p:spPr>
          <a:xfrm>
            <a:off x="4643280" y="1730520"/>
            <a:ext cx="3814920" cy="42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00"/>
                </a:solidFill>
                <a:latin typeface="Times New Roman"/>
              </a:rPr>
              <a:t>Uczeń w szkole bez przemocy...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Jest zadowolony, pewny siebi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Bezpieczn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Szczęśliw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Chętnie przychodzi do szkoł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Może skupić się na nau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00"/>
                </a:solidFill>
                <a:latin typeface="Times New Roman"/>
              </a:rPr>
              <a:t>Rodzic w szkole bez przemocy...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Są spokojniejsi i nie muszą martwić się o dwoje dziec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Powinien wspierać, pomagać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00"/>
                </a:solidFill>
                <a:latin typeface="Times New Roman"/>
              </a:rPr>
              <a:t>Nauczyciel w szkole bez przemocy....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Czuje się bezpieczni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Tolerancyjny, pomocn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Cieszy się ze swojej prac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Będzie zadowolon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00"/>
                </a:solidFill>
                <a:latin typeface="Times New Roman"/>
              </a:rPr>
              <a:t>SZKOŁA BEZ PRZEMOC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81312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NAUCZYCIE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2" name="BD00028_" descr=""/>
          <p:cNvPicPr/>
          <p:nvPr/>
        </p:nvPicPr>
        <p:blipFill>
          <a:blip r:embed="rId1"/>
          <a:stretch/>
        </p:blipFill>
        <p:spPr>
          <a:xfrm>
            <a:off x="4643280" y="1730520"/>
            <a:ext cx="3814920" cy="42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8T16:25:14Z</dcterms:created>
  <dc:creator>Gosia</dc:creator>
  <dc:description/>
  <dc:language>en-US</dc:language>
  <cp:lastModifiedBy>PLO</cp:lastModifiedBy>
  <dcterms:modified xsi:type="dcterms:W3CDTF">2008-01-31T15:39:25Z</dcterms:modified>
  <cp:revision>14</cp:revision>
  <dc:subject/>
  <dc:title>SZKOŁA BEZ PRZEMOCY</dc:title>
</cp:coreProperties>
</file>