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C5A-4F92-4A1D-A78D-780EF0D7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B90-C2C7-4EB7-8E72-AB6B0A1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65F-59A6-4A3F-9ECA-9A5A19B2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693-C2E8-4280-A63E-B33CE0ED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E99-7DDB-4C9C-9702-40606C2B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45F2-EC7D-47C6-91AC-3B48DD76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D482-B498-4084-B4E1-67FCF77E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383-61FC-437B-94C2-DDE6849F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1887-CF34-44EF-ADC8-71453884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0C83-417C-43F0-B827-06467C12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46F-3548-46AA-ADA5-EB2F937A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830-5C03-427F-B5BF-D0548ECC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FCC-164B-41D5-93AC-161573C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2918-0942-42AF-BB0B-DAF46CD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6B56-DDDF-4275-AC2F-CF3C599F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60A-EFF2-48C7-B226-324717A1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B2F3-0EF4-41B9-B57B-396E81DD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F37-11DB-464C-BA4F-A15C8B0E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AB7-D91A-4108-9445-5E06E058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E58-6EE1-45F7-AFA9-0623A8BD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0BE-B946-4BE5-999C-5B6AE994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A55-15C6-4ECA-AF9D-AA16D91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A85-B833-4475-82E6-472DB42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98C-A2EC-40B3-B86A-A6D8A062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F897-9492-41F6-875F-7BD3EF1C462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6A57-EF68-4104-B577-7969C3BEF350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otkanie z rodzicami klas maturalny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ażdy młody człowiek wcześniej czy później dokonuje zdumiewającego odkrycia, że także rodzice mają niekiedy rację.„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aździernik 200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stres" descr=""/>
          <p:cNvPicPr/>
          <p:nvPr/>
        </p:nvPicPr>
        <p:blipFill>
          <a:blip r:embed="rId4"/>
          <a:stretch/>
        </p:blipFill>
        <p:spPr>
          <a:xfrm>
            <a:off x="4648320" y="2185920"/>
            <a:ext cx="38098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"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res jest to relacja między umiejętnościami radzenia sobie jednostki a wymaganiami stawianymi jej przez otoczenie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BD05368_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38098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sza odporność na stres zależy w dużym stopniu od tego, czy mamy oparcie w innych ludziach (rodzice, przyjaciele, nauczyciel), czyli od naszego wsparcia społeczneg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PE02097_" descr=""/>
          <p:cNvPicPr/>
          <p:nvPr/>
        </p:nvPicPr>
        <p:blipFill>
          <a:blip r:embed="rId3"/>
          <a:stretch/>
        </p:blipFill>
        <p:spPr>
          <a:xfrm>
            <a:off x="685800" y="247500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64c"/>
                </a:solidFill>
                <a:latin typeface="Times New Roman"/>
              </a:rPr>
              <a:t>Opracowała: Małgorzata Siupi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 T R E 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an zaburzonej równowagi psychologicznej i fizjologicznej w wyniku reakcji somatycznych, które są odpowiedzią na wydarzenia niespodziewane, zakłócające lub stymulujące organizm i całego człowiek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d wpływem stresu pozostajemy wszyscy - choć jedni częściej, inni rzadziej. Często od nas samych zależy, czy dana sytuacja nosi znamiona zagrożenia. To, co dla jednego człowieka stanowi zagrożenie, dla innego może być przyjemnym urozmaiceniem. I tak dla jednych egzamin graniczy z końcem świata, dla innych jest tylko zadaniem; dla jednych porażka jest bodźcem do działania, inni porażkę przepłacają depresją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BD05552_" descr=""/>
          <p:cNvPicPr/>
          <p:nvPr/>
        </p:nvPicPr>
        <p:blipFill>
          <a:blip r:embed="rId3"/>
          <a:stretch/>
        </p:blipFill>
        <p:spPr>
          <a:xfrm>
            <a:off x="4648320" y="243360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FERY OBJAWÓW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fizjolog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sprawności i myślen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emocj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zachowa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fizjologii:</a:t>
            </a:r>
            <a:br>
              <a:rPr sz="18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ladość, pocenie się, przyspieszone bicie serca, napięcie mięśni,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yszenie, zmiany ciśnienia krwi, odpływ krwi do mięśni, suchość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ustach i gardle, częste oddawanie moczu, ból pleców, szyi i innych części ciała, niestrawność, bóle głowy, bezsenność...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sprawności i myślenia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uki w pamięci, zapominanie, niemożność skoncentrowania się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gólny brak zainteresowań, obsesyjne trzymanie się pewnych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mysłów</a:t>
            </a:r>
            <a:r>
              <a:rPr b="0" lang="en-US" sz="2000" spc="-1" strike="noStrike">
                <a:solidFill>
                  <a:srgbClr val="00264c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emocji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ęk, rozdrażnienie, depresja, zamykanie się w sobie, nerwowość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złość, zakłopotani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zachowań: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rudności z mówieniem, impulsywność, drżenie, tiki nerwowe,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soki i nerwowy śmiech, zgrzytanie zębami, częstsze uleganie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padkom, intensywne palenie papierosów, picie dużych ilości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lkoholu, nieuzasadnione zażywanie leków, zmiany w odżywia-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iu, pojawienie się innych nerwowych zachowań</a:t>
            </a:r>
            <a:r>
              <a:rPr b="0" lang="pl-PL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zaczyna się stres, np. musisz natychmiast zrobić coś, co z różnych względów sprawia Ci trudność. Twój organizm produkuje więcej adrenaliny. Czujesz, jak krew uderza Ci do głowy, puls wali jak szalony, masz przyśpieszony oddech, wysuszone gardło, wilgotne dłonie, ale i sporo energii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stres się przedłuża, twoje ciało zmuszone jest do podwyższonej gotowości powoli zaczyna przystosowywać się do takich nienormalnych warunków. Ponieważ jednak zasoby energetyczne każdego organizmu są ograniczone, szybciej się męczysz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Stadium -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śli stres utrzymuje się nadal, nie możesz go wyeliminować ani uciec w spokojne i bezpieczne miejsce. Uważaj - Twoje siły są na wyczerpaniu. Czujesz się osobą opuszczoną, wykończoną, wykorzystywaną, smutną, bezradną i doprowadzoną do ostateczności. Krzyczysz lub płaczesz w odpowiedzi na drobne nieprzyjemności, co jest nie zrozumiałe dla otoczenia, które zaczyna traktować Cię jak histeryka(- czkę). Im bardziej się złościsz i ostrzej reagujesz, tym surowiej Cię traktują. W tym trzecim stadium stresu grozi Ci poważne załamanie nerwowe, jeśli natychmiast nie zaczniesz o siebie dbać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43:01Z</dcterms:created>
  <dc:creator>Gosia</dc:creator>
  <dc:description/>
  <dc:language>en-US</dc:language>
  <cp:lastModifiedBy>Gosia</cp:lastModifiedBy>
  <dcterms:modified xsi:type="dcterms:W3CDTF">2006-10-15T14:38:24Z</dcterms:modified>
  <cp:revision>19</cp:revision>
  <dc:subject/>
  <dc:title>STRES</dc:title>
</cp:coreProperties>
</file>