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3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3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223-69A9-4E89-B9F1-98098D50E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F0E4-8565-44F9-98E6-B857F847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F27-689D-405A-834A-5A320BE9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07FF-8AB4-487E-A4BC-8A91C78F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1FA7-582C-41BB-8A6A-9B97374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4884-73EE-4894-8F84-CE2CB976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7C1F-5D1F-4C66-9383-8B27BFDC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5E12-4C7F-4C34-9AF2-8F49610D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1104-2012-44B1-B967-AB0598BA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0E8F-9DF3-48F8-BE8E-BC697462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5D45-1570-4B19-A1B1-C26BE3F7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6B73-9AF3-4E25-90EA-984C5829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C471-BDAE-4938-82C4-AD6327E0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FC4B-ABFC-46B3-9827-2EC9E1F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D737-A9FF-498F-B216-DA635796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4B69-77A3-4AD2-B600-F3B82895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63D2-23FB-4498-87B1-D9EEE643C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55F-61DE-42DD-B867-86ADEDC5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D78-9F97-4852-87EB-A1C414CC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395-2D76-486F-AD42-03BF186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DB7C-9365-4A5E-96AD-06C76BD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5E4-B27B-42C9-8AF8-D3266B28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23A-B6E1-4D29-A8C8-F9A2F0C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554-885B-4821-9890-019253D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F187-9252-4955-B53E-8BAAE6176E9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95C-7322-481F-AA28-D2D60C1B8441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otkanie z rodzicami klas maturalny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64c"/>
                </a:solidFill>
                <a:latin typeface="Times New Roman"/>
              </a:rPr>
              <a:t>"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ażdy młody człowiek wcześniej czy później dokonuje zdumiewającego odkrycia, że także rodzice mają niekiedy rację.„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Październik 2006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stres" descr=""/>
          <p:cNvPicPr/>
          <p:nvPr/>
        </p:nvPicPr>
        <p:blipFill>
          <a:blip r:embed="rId4"/>
          <a:stretch/>
        </p:blipFill>
        <p:spPr>
          <a:xfrm>
            <a:off x="4648320" y="2185920"/>
            <a:ext cx="380988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"</a:t>
            </a:r>
            <a:r>
              <a:rPr b="0" i="1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res jest to relacja między umiejętnościami radzenia sobie jednostki a wymaganiami stawianymi jej przez otoczenie</a:t>
            </a:r>
            <a:r>
              <a:rPr b="0" i="1" lang="en-US" sz="2400" spc="-1" strike="noStrike">
                <a:solidFill>
                  <a:srgbClr val="00264c"/>
                </a:solidFill>
                <a:latin typeface="Verdana"/>
                <a:ea typeface="Times New Roman"/>
              </a:rPr>
              <a:t>."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6" name="BD05368_" descr=""/>
          <p:cNvPicPr/>
          <p:nvPr/>
        </p:nvPicPr>
        <p:blipFill>
          <a:blip r:embed="rId3"/>
          <a:stretch/>
        </p:blipFill>
        <p:spPr>
          <a:xfrm>
            <a:off x="685800" y="1981080"/>
            <a:ext cx="38098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asza odporność na stres zależy w dużym stopniu od tego, czy mamy oparcie w innych ludziach (rodzice, przyjaciele, nauczyciel), czyli od naszego wsparcia społeczneg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E02097_" descr=""/>
          <p:cNvPicPr/>
          <p:nvPr/>
        </p:nvPicPr>
        <p:blipFill>
          <a:blip r:embed="rId3"/>
          <a:stretch/>
        </p:blipFill>
        <p:spPr>
          <a:xfrm>
            <a:off x="685800" y="247500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KONIEC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64c"/>
                </a:solidFill>
                <a:latin typeface="Times New Roman"/>
              </a:rPr>
              <a:t>Opracowała: Małgorzata Siupik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S T R E S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an zaburzonej równowagi psychologicznej i fizjologicznej w wyniku reakcji somatycznych, które są odpowiedzią na wydarzenia niespodziewane, zakłócające lub stymulujące organizm i całego człowieka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R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d wpływem stresu pozostajemy wszyscy - choć jedni częściej, inni rzadziej. Często od nas samych zależy, czy dana sytuacja nosi znamiona zagrożenia. To, co dla jednego człowieka stanowi zagrożenie, dla innego może być przyjemnym urozmaiceniem. I tak dla jednych egzamin graniczy z końcem świata, dla innych jest tylko zadaniem; dla jednych porażka jest bodźcem do działania, inni porażkę przepłacają depresją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BD05552_" descr=""/>
          <p:cNvPicPr/>
          <p:nvPr/>
        </p:nvPicPr>
        <p:blipFill>
          <a:blip r:embed="rId3"/>
          <a:stretch/>
        </p:blipFill>
        <p:spPr>
          <a:xfrm>
            <a:off x="4648320" y="243360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FERY OBJAWÓW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fizjologi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sprawności i myślen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emocj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fera zachowa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545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fizjologii:</a:t>
            </a:r>
            <a:br>
              <a:rPr sz="18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ladość, pocenie się, przyspieszone bicie serca, napięcie mięśni,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yszenie, zmiany ciśnienia krwi, odpływ krwi do mięśni, suchość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ustach i gardle, częste oddawanie moczu, ból pleców, szyi i innych części ciała, niestrawność, bóle głowy, bezsenność...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sprawności i myślenia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uki w pamięci, zapominanie, niemożność skoncentrowania się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gólny brak zainteresowań, obsesyjne trzymanie się pewnych 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mysłów</a:t>
            </a:r>
            <a:r>
              <a:rPr b="0" lang="en-US" sz="2000" spc="-1" strike="noStrike">
                <a:solidFill>
                  <a:srgbClr val="00264c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OBJAW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emocji: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ęk, rozdrażnienie, depresja, zamykanie się w sobie, nerwowość,</a:t>
            </a:r>
            <a:br>
              <a:rPr sz="2000"/>
            </a:b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złość, zakłopotanie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64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 sferze zachowań: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rudności z mówieniem, impulsywność, drżenie, tiki nerwowe,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soki i nerwowy śmiech, zgrzytanie zębami, częstsze uleganie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wypadkom, intensywne palenie papierosów, picie dużych ilości 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lkoholu, nieuzasadnione zażywanie leków, zmiany w odżywia-</a:t>
            </a:r>
            <a:br>
              <a:rPr sz="2000"/>
            </a:br>
            <a:r>
              <a:rPr b="0" lang="pl-PL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iu, pojawienie się innych nerwowych zachowań</a:t>
            </a:r>
            <a:r>
              <a:rPr b="0" lang="pl-PL" sz="2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zaczyna się stres, np. musisz natychmiast zrobić coś, co z różnych względów sprawia Ci trudność. Twój organizm produkuje więcej adrenaliny. Czujesz, jak krew uderza Ci do głowy, puls wali jak szalony, masz przyśpieszony oddech, wysuszone gardło, wilgotne dłonie, ale i sporo energii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Stadium stres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Kiedy stres się przedłuża, twoje ciało zmuszone jest do podwyższonej gotowości powoli zaczyna przystosowywać się do takich nienormalnych warunków. Ponieważ jednak zasoby energetyczne każdego organizmu są ograniczone, szybciej się męczysz.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AZY STRESU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Stadium -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śli stres utrzymuje się nadal, nie możesz go wyeliminować ani uciec w spokojne i bezpieczne miejsce. Uważaj - Twoje siły są na wyczerpaniu. Czujesz się osobą opuszczoną, wykończoną, wykorzystywaną, smutną, bezradną i doprowadzoną do ostateczności. Krzyczysz lub płaczesz w odpowiedzi na drobne nieprzyjemności, co jest nie zrozumiałe dla otoczenia, które zaczyna traktować Cię jak histeryka(- czkę). Im bardziej się złościsz i ostrzej reagujesz, tym surowiej Cię traktują. W tym trzecim stadium stresu grozi Ci poważne załamanie nerwowe, jeśli natychmiast nie zaczniesz o siebie dbać.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43:01Z</dcterms:created>
  <dc:creator>Gosia</dc:creator>
  <dc:description/>
  <dc:language>en-US</dc:language>
  <cp:lastModifiedBy>Gosia</cp:lastModifiedBy>
  <dcterms:modified xsi:type="dcterms:W3CDTF">2006-10-15T14:38:24Z</dcterms:modified>
  <cp:revision>19</cp:revision>
  <dc:subject/>
  <dc:title>STRES</dc:title>
</cp:coreProperties>
</file>